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85E-31D2-4BE3-B836-3BE995F9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8EC-E56C-481D-8852-7D619316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45D-6D94-403B-8A34-39121F9C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834-E4BF-480A-AC66-73E78252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CDEB-1941-4D05-ACF3-E760D38A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3E2C-346E-4568-9C26-45C36285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B71B-CAF3-4F6C-8258-9F57702E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9339-9DD4-42A5-9462-A104E51E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A6DC-3B6C-4E29-8CB3-0954587E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D8F5-BB24-4D4C-A7A2-FEDADFA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454F-0412-4675-B741-35209FE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FEE-5C7D-44E6-B775-B320C729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109E-A416-4E97-8969-241E288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D373-B2FC-459D-897D-7F0CB18F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12A-5616-4BE1-88D0-B9844076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D26-9C86-441C-B59B-925C8F7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124D-AE2E-498D-B78D-EE178D6A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5E2-D876-433D-80CF-DBB06B8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118-3771-41FD-B1E6-677B0FE7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FE76-F7A6-4775-8A15-1FC60F2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89C-B80A-4AA5-AB6C-1F17ED97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0DA-3F8D-4C6B-B215-36E7E8F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35D-1BFE-4F14-945B-33415CBB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0C5-4E8B-4009-9120-F809BE8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2373-4AE8-4C76-A888-8D6298E68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6405-79ED-4AAB-B4E0-92C1743F558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ask.com/" TargetMode="External"/><Relationship Id="rId4" Type="http://schemas.openxmlformats.org/officeDocument/2006/relationships/hyperlink" Target="http://www.loc.gov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ULTURAL DIFFUS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INI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ltural Diffusion: the spreading of a cultural trait (material object, idea, or behavior pattern) from one society to anoth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usion can also be viewed as a cultural 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change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ments of Culture that have been 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ffused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into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our current cultu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7" descr="food1"/>
          <p:cNvPicPr/>
          <p:nvPr/>
        </p:nvPicPr>
        <p:blipFill>
          <a:blip r:embed="rId1"/>
          <a:stretch/>
        </p:blipFill>
        <p:spPr>
          <a:xfrm>
            <a:off x="1709640" y="1600200"/>
            <a:ext cx="1533600" cy="218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hinese-food"/>
          <p:cNvPicPr/>
          <p:nvPr/>
        </p:nvPicPr>
        <p:blipFill>
          <a:blip r:embed="rId2"/>
          <a:stretch/>
        </p:blipFill>
        <p:spPr>
          <a:xfrm>
            <a:off x="5802480" y="1600200"/>
            <a:ext cx="1728720" cy="2189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ods: Chinese, Mexican, India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ow many have eaten a fortune cooki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lements of Culture that have been diffused into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cultur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ball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ball was developed into the game it is now in the US in the late 18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centu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common saying here in the US?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 American as ___________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11" descr="baseball"/>
          <p:cNvPicPr/>
          <p:nvPr/>
        </p:nvPicPr>
        <p:blipFill>
          <a:blip r:embed="rId1"/>
          <a:stretch/>
        </p:blipFill>
        <p:spPr>
          <a:xfrm>
            <a:off x="1038240" y="1600200"/>
            <a:ext cx="2874960" cy="218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baseball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PPLE PIE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7" descr="a_pie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ther examples of cultural diffusion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9" descr="hopipueblo"/>
          <p:cNvPicPr/>
          <p:nvPr/>
        </p:nvPicPr>
        <p:blipFill>
          <a:blip r:embed="rId1"/>
          <a:stretch/>
        </p:blipFill>
        <p:spPr>
          <a:xfrm>
            <a:off x="942840" y="1600200"/>
            <a:ext cx="306720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1adobe"/>
          <p:cNvPicPr/>
          <p:nvPr/>
        </p:nvPicPr>
        <p:blipFill>
          <a:blip r:embed="rId2"/>
          <a:stretch/>
        </p:blipFill>
        <p:spPr>
          <a:xfrm>
            <a:off x="893880" y="3941640"/>
            <a:ext cx="316368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bonito2"/>
          <p:cNvPicPr/>
          <p:nvPr/>
        </p:nvPicPr>
        <p:blipFill>
          <a:blip r:embed="rId3"/>
          <a:stretch/>
        </p:blipFill>
        <p:spPr>
          <a:xfrm>
            <a:off x="4648320" y="1820880"/>
            <a:ext cx="403848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and a partner are required to find and research two different things on the internet that have been culturally diffused either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into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ur culture, or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from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ur culture into another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cul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7" descr="pueblo1"/>
          <p:cNvPicPr/>
          <p:nvPr/>
        </p:nvPicPr>
        <p:blipFill>
          <a:blip r:embed="rId1"/>
          <a:stretch/>
        </p:blipFill>
        <p:spPr>
          <a:xfrm>
            <a:off x="5938920" y="160020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ueblo2"/>
          <p:cNvPicPr/>
          <p:nvPr/>
        </p:nvPicPr>
        <p:blipFill>
          <a:blip r:embed="rId2"/>
          <a:stretch/>
        </p:blipFill>
        <p:spPr>
          <a:xfrm>
            <a:off x="5060880" y="3941640"/>
            <a:ext cx="3211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, Continued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You may use any resource on the web, but you must use a minimum of 3 different sites for each top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are many search engines that may help you find information, such 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re are some other sites that will help you find other sites related to your topic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ww.yahoo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www.ask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loc.gov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ignment, Continued, again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of one page for each idea or conce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lude as many pictures as necessary along with your typewritten summa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at the end of class, be ready to present your topics to your classmates tomorrow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 creative in your paper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0:02:40Z</dcterms:created>
  <dc:creator>College of Education</dc:creator>
  <dc:description/>
  <dc:language>en-US</dc:language>
  <cp:lastModifiedBy>Microsoft Office User</cp:lastModifiedBy>
  <dcterms:modified xsi:type="dcterms:W3CDTF">2013-10-07T01:09:54Z</dcterms:modified>
  <cp:revision>4</cp:revision>
  <dc:subject/>
  <dc:title>CULTURAL DIFFU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